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2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585B-6F2C-4B0D-AF1C-30AA18DCF8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57F-E73F-45DF-99A5-36507049C8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slide worked really well and cleared up a lot of misunderstanding that some seniors had about bid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ake your time and ensure each participant understands each step as its revealed.  Even give out as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946-D911-44BC-ACE2-DA93265117C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 small bag of Lollipops works just as well on both 8 and 80 year olds when it comes to bribery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4E7-0511-4315-AC3B-88056589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41E-28E2-43A6-B48C-DBB5B39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EAB-6695-4CB0-9D68-87B2D983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ED7-8832-4F07-B593-825C7C77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84A-50C2-4C6E-B7F3-EC0E06E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FE8-9ED9-40DE-8B76-C71F461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034-D2B3-43D1-A51E-497EE89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D39-ECD5-4BF0-992A-DB67B6AE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630-744C-4965-A457-C3ADE59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60B-CBD8-4999-AB39-28B49B2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74A-2E09-472A-9ECB-B7200D3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1BD-9353-4E63-B792-12E2AB2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E6CB-F008-47A7-B006-3C0F084F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Onlin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odrising Neighbourhood Cen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371600" cy="1197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539640" y="4653000"/>
            <a:ext cx="7918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bidd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ed posts a cup, starting price $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 $10. Price = $2. </a:t>
            </a: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5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5.50. </a:t>
            </a: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cc00"/>
                </a:solidFill>
                <a:latin typeface="Arial"/>
              </a:rPr>
              <a:t>Jo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15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0.50. </a:t>
            </a:r>
            <a:r>
              <a:rPr b="0" lang="en-AU" sz="2800" spc="-1" strike="noStrike">
                <a:solidFill>
                  <a:srgbClr val="00cc00"/>
                </a:solidFill>
                <a:latin typeface="Arial"/>
              </a:rPr>
              <a:t>Jo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s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20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5.50.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 $17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7.50.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still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ction finishes. 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wins and has to pay Fred $17.50 + po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mrmoneymotivator.com/wp-content/uploads/2013/05/goldcup.jpg"/>
          <p:cNvPicPr/>
          <p:nvPr/>
        </p:nvPicPr>
        <p:blipFill>
          <a:blip r:embed="rId1"/>
          <a:srcRect l="0" t="16668" r="0" b="19540"/>
          <a:stretch/>
        </p:blipFill>
        <p:spPr>
          <a:xfrm>
            <a:off x="6710400" y="390600"/>
            <a:ext cx="2340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8271" t="0" r="2687" b="0"/>
          <a:stretch/>
        </p:blipFill>
        <p:spPr>
          <a:xfrm>
            <a:off x="250920" y="907920"/>
            <a:ext cx="874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Rectangular Callout 1"/>
          <p:cNvSpPr/>
          <p:nvPr/>
        </p:nvSpPr>
        <p:spPr>
          <a:xfrm>
            <a:off x="7020000" y="3736800"/>
            <a:ext cx="1692360" cy="1224000"/>
          </a:xfrm>
          <a:prstGeom prst="wedgeRectCallout">
            <a:avLst>
              <a:gd name="adj1" fmla="val 12550"/>
              <a:gd name="adj2" fmla="val -18905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19 T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97.1 % 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ular Callout 7"/>
          <p:cNvSpPr/>
          <p:nvPr/>
        </p:nvSpPr>
        <p:spPr>
          <a:xfrm>
            <a:off x="1187280" y="4583160"/>
            <a:ext cx="1692360" cy="755640"/>
          </a:xfrm>
          <a:prstGeom prst="wedgeRectCallout">
            <a:avLst>
              <a:gd name="adj1" fmla="val 96810"/>
              <a:gd name="adj2" fmla="val -17126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$15 standard po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ular Callout 8"/>
          <p:cNvSpPr/>
          <p:nvPr/>
        </p:nvSpPr>
        <p:spPr>
          <a:xfrm>
            <a:off x="5329080" y="5351400"/>
            <a:ext cx="1690920" cy="971640"/>
          </a:xfrm>
          <a:prstGeom prst="wedgeRectCallout">
            <a:avLst>
              <a:gd name="adj1" fmla="val -47064"/>
              <a:gd name="adj2" fmla="val -1408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yPal / Credit Card. Read all the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ular Callout 9"/>
          <p:cNvSpPr/>
          <p:nvPr/>
        </p:nvSpPr>
        <p:spPr>
          <a:xfrm>
            <a:off x="539640" y="404640"/>
            <a:ext cx="1692360" cy="1116360"/>
          </a:xfrm>
          <a:prstGeom prst="wedgeRectCallout">
            <a:avLst>
              <a:gd name="adj1" fmla="val 133375"/>
              <a:gd name="adj2" fmla="val 986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$187.50 current bid. Need to bid $190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ular Callout 10"/>
          <p:cNvSpPr/>
          <p:nvPr/>
        </p:nvSpPr>
        <p:spPr>
          <a:xfrm>
            <a:off x="3324240" y="209520"/>
            <a:ext cx="1692360" cy="752400"/>
          </a:xfrm>
          <a:prstGeom prst="wedgeRectCallout">
            <a:avLst>
              <a:gd name="adj1" fmla="val -11291"/>
              <a:gd name="adj2" fmla="val 1336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uction Finishes in 1 Min 5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ular Callout 11"/>
          <p:cNvSpPr/>
          <p:nvPr/>
        </p:nvSpPr>
        <p:spPr>
          <a:xfrm>
            <a:off x="5796000" y="1413000"/>
            <a:ext cx="1584360" cy="556920"/>
          </a:xfrm>
          <a:prstGeom prst="wedgeRectCallout">
            <a:avLst>
              <a:gd name="adj1" fmla="val -67476"/>
              <a:gd name="adj2" fmla="val 642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 Bids so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ular Callout 12"/>
          <p:cNvSpPr/>
          <p:nvPr/>
        </p:nvSpPr>
        <p:spPr>
          <a:xfrm>
            <a:off x="2700360" y="5607000"/>
            <a:ext cx="1690560" cy="757440"/>
          </a:xfrm>
          <a:prstGeom prst="wedgeRectCallout">
            <a:avLst>
              <a:gd name="adj1" fmla="val 37194"/>
              <a:gd name="adj2" fmla="val -17482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Keith\AppData\Local\Microsoft\Windows\Temporary Internet Files\Content.IE5\5HWT3ZDL\MP900442440[1].jpg"/>
          <p:cNvPicPr/>
          <p:nvPr/>
        </p:nvPicPr>
        <p:blipFill>
          <a:blip r:embed="rId1"/>
          <a:stretch/>
        </p:blipFill>
        <p:spPr>
          <a:xfrm>
            <a:off x="5435640" y="2536920"/>
            <a:ext cx="3637080" cy="3995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ok for stuff you might want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g clothes, electronics, camera, phone, tablet, watch, frogs, car, boat, caravan, 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ke not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 Now or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or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y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age details, cost, es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llers rating, number of t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safe bu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 the item. Shop around. Read 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o good to be true then it ofte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postage costs,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seller rating, number of t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sellers bad feedbacks (if 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ct seller.  No response then no 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you can meet pay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delive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:\Users\Keith\AppData\Local\Microsoft\Windows\Temporary Internet Files\Content.IE5\JYA669MN\MC900431529[1].png"/>
          <p:cNvPicPr/>
          <p:nvPr/>
        </p:nvPicPr>
        <p:blipFill>
          <a:blip r:embed="rId1"/>
          <a:stretch/>
        </p:blipFill>
        <p:spPr>
          <a:xfrm>
            <a:off x="7213680" y="-11160"/>
            <a:ext cx="1825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Online Tr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632720" cy="4784760"/>
          </a:xfrm>
          <a:prstGeom prst="rect">
            <a:avLst/>
          </a:prstGeom>
          <a:solidFill>
            <a:srgbClr val="e6e7b7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lmost anything: food, drink, books, gifts, medical, travel, etc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cat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rom over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compare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b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7240" y="1197000"/>
            <a:ext cx="8042040" cy="40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Online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rading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Exper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415310000[1]"/>
          <p:cNvPicPr/>
          <p:nvPr/>
        </p:nvPicPr>
        <p:blipFill>
          <a:blip r:embed="rId1"/>
          <a:stretch/>
        </p:blipFill>
        <p:spPr>
          <a:xfrm>
            <a:off x="395280" y="1125360"/>
            <a:ext cx="191448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4415760000[1]"/>
          <p:cNvPicPr/>
          <p:nvPr/>
        </p:nvPicPr>
        <p:blipFill>
          <a:blip r:embed="rId2"/>
          <a:stretch/>
        </p:blipFill>
        <p:spPr>
          <a:xfrm>
            <a:off x="7020000" y="1052640"/>
            <a:ext cx="186984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j02959880000[1]"/>
          <p:cNvPicPr/>
          <p:nvPr/>
        </p:nvPicPr>
        <p:blipFill>
          <a:blip r:embed="rId3"/>
          <a:stretch/>
        </p:blipFill>
        <p:spPr>
          <a:xfrm>
            <a:off x="395280" y="4221000"/>
            <a:ext cx="2467080" cy="179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j02416430000[1]"/>
          <p:cNvPicPr/>
          <p:nvPr/>
        </p:nvPicPr>
        <p:blipFill>
          <a:blip r:embed="rId4"/>
          <a:stretch/>
        </p:blipFill>
        <p:spPr>
          <a:xfrm>
            <a:off x="3851280" y="4653000"/>
            <a:ext cx="1720800" cy="184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j04291650000[1]"/>
          <p:cNvPicPr/>
          <p:nvPr/>
        </p:nvPicPr>
        <p:blipFill>
          <a:blip r:embed="rId5"/>
          <a:stretch/>
        </p:blipFill>
        <p:spPr>
          <a:xfrm>
            <a:off x="3780000" y="333360"/>
            <a:ext cx="1823760" cy="16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Cj04135900000[1]"/>
          <p:cNvPicPr/>
          <p:nvPr/>
        </p:nvPicPr>
        <p:blipFill>
          <a:blip r:embed="rId6"/>
          <a:stretch/>
        </p:blipFill>
        <p:spPr>
          <a:xfrm>
            <a:off x="6659640" y="4076640"/>
            <a:ext cx="2087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 me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I would buy,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strix 100mg Aspi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8Gb USB memory st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New Idea’ sub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(Do not use ebay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nline buying 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putable companies.  Address? AB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ust your insti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e prices at sites and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livery costs an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und &amp; ret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e page when entering card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void shar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uble check order before confi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int receipts and in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ips: Prevent Trading Fra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dlock symbol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website addres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privac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sonal info – only to trust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monthl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tivirus up to date, firewall, regular sc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direct to site. Not via a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good passwords. Min 8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49650" t="29246" r="0" b="2486"/>
          <a:stretch/>
        </p:blipFill>
        <p:spPr>
          <a:xfrm>
            <a:off x="4211640" y="1413000"/>
            <a:ext cx="354168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307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15640" y="1477800"/>
            <a:ext cx="7272360" cy="4648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ly safe to 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id, Buy Now, Make O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st be registe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 or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v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gistration i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ve means to pay – Paypal V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re details plus credit card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s://encrypted-tbn2.gstatic.com/images?q=tbn:ANd9GcS1y1jbcUk3B5ZGJf0rs_q6ryABVQdScHPHXZZRtbauWJ0aVkWX"/>
          <p:cNvPicPr/>
          <p:nvPr/>
        </p:nvPicPr>
        <p:blipFill>
          <a:blip r:embed="rId1"/>
          <a:stretch/>
        </p:blipFill>
        <p:spPr>
          <a:xfrm>
            <a:off x="2771640" y="115920"/>
            <a:ext cx="33530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redit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Program Files (x86)\Microsoft Office 2010\MEDIA\CAGCAT10\j0292020.wmf"/>
          <p:cNvPicPr/>
          <p:nvPr/>
        </p:nvPicPr>
        <p:blipFill>
          <a:blip r:embed="rId1"/>
          <a:stretch/>
        </p:blipFill>
        <p:spPr>
          <a:xfrm>
            <a:off x="611280" y="2541600"/>
            <a:ext cx="1869840" cy="177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Keith\AppData\Local\Microsoft\Windows\Temporary Internet Files\Content.IE5\I0MJUD2F\MC900437779[1].wmf"/>
          <p:cNvPicPr/>
          <p:nvPr/>
        </p:nvPicPr>
        <p:blipFill>
          <a:blip r:embed="rId2"/>
          <a:stretch/>
        </p:blipFill>
        <p:spPr>
          <a:xfrm>
            <a:off x="5292720" y="18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Keith\AppData\Local\Microsoft\Windows\Temporary Internet Files\Content.IE5\I0MJUD2F\MC900437779[1].wmf"/>
          <p:cNvPicPr/>
          <p:nvPr/>
        </p:nvPicPr>
        <p:blipFill>
          <a:blip r:embed="rId3"/>
          <a:stretch/>
        </p:blipFill>
        <p:spPr>
          <a:xfrm>
            <a:off x="6729480" y="161136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Keith\AppData\Local\Microsoft\Windows\Temporary Internet Files\Content.IE5\I0MJUD2F\MC900437779[1].wmf"/>
          <p:cNvPicPr/>
          <p:nvPr/>
        </p:nvPicPr>
        <p:blipFill>
          <a:blip r:embed="rId4"/>
          <a:stretch/>
        </p:blipFill>
        <p:spPr>
          <a:xfrm>
            <a:off x="6948360" y="342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Keith\AppData\Local\Microsoft\Windows\Temporary Internet Files\Content.IE5\I0MJUD2F\MC900437779[1].wmf"/>
          <p:cNvPicPr/>
          <p:nvPr/>
        </p:nvPicPr>
        <p:blipFill>
          <a:blip r:embed="rId5"/>
          <a:stretch/>
        </p:blipFill>
        <p:spPr>
          <a:xfrm>
            <a:off x="5869080" y="5018040"/>
            <a:ext cx="1797120" cy="1860480"/>
          </a:xfrm>
          <a:prstGeom prst="rect">
            <a:avLst/>
          </a:prstGeom>
          <a:ln w="0">
            <a:noFill/>
          </a:ln>
        </p:spPr>
      </p:pic>
      <p:sp>
        <p:nvSpPr>
          <p:cNvPr id="75" name="Right Arrow 3"/>
          <p:cNvSpPr/>
          <p:nvPr/>
        </p:nvSpPr>
        <p:spPr>
          <a:xfrm rot="19599000">
            <a:off x="2438280" y="1601280"/>
            <a:ext cx="2880000" cy="863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ight Arrow 9"/>
          <p:cNvSpPr/>
          <p:nvPr/>
        </p:nvSpPr>
        <p:spPr>
          <a:xfrm rot="20919000">
            <a:off x="2924280" y="2484000"/>
            <a:ext cx="3701880" cy="8636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10"/>
          <p:cNvSpPr/>
          <p:nvPr/>
        </p:nvSpPr>
        <p:spPr>
          <a:xfrm rot="348000">
            <a:off x="2938320" y="3600360"/>
            <a:ext cx="3702240" cy="8654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11"/>
          <p:cNvSpPr/>
          <p:nvPr/>
        </p:nvSpPr>
        <p:spPr>
          <a:xfrm rot="1419600">
            <a:off x="2749680" y="4498560"/>
            <a:ext cx="312264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y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 (x86)\Microsoft Office 2010\MEDIA\CAGCAT10\j0292020.wmf"/>
          <p:cNvPicPr/>
          <p:nvPr/>
        </p:nvPicPr>
        <p:blipFill>
          <a:blip r:embed="rId1"/>
          <a:stretch/>
        </p:blipFill>
        <p:spPr>
          <a:xfrm>
            <a:off x="611280" y="2541600"/>
            <a:ext cx="1869840" cy="177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Keith\AppData\Local\Microsoft\Windows\Temporary Internet Files\Content.IE5\I0MJUD2F\MC900437779[1].wmf"/>
          <p:cNvPicPr/>
          <p:nvPr/>
        </p:nvPicPr>
        <p:blipFill>
          <a:blip r:embed="rId2"/>
          <a:stretch/>
        </p:blipFill>
        <p:spPr>
          <a:xfrm>
            <a:off x="5292720" y="18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Keith\AppData\Local\Microsoft\Windows\Temporary Internet Files\Content.IE5\I0MJUD2F\MC900437779[1].wmf"/>
          <p:cNvPicPr/>
          <p:nvPr/>
        </p:nvPicPr>
        <p:blipFill>
          <a:blip r:embed="rId3"/>
          <a:stretch/>
        </p:blipFill>
        <p:spPr>
          <a:xfrm>
            <a:off x="6729480" y="161136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Keith\AppData\Local\Microsoft\Windows\Temporary Internet Files\Content.IE5\I0MJUD2F\MC900437779[1].wmf"/>
          <p:cNvPicPr/>
          <p:nvPr/>
        </p:nvPicPr>
        <p:blipFill>
          <a:blip r:embed="rId4"/>
          <a:stretch/>
        </p:blipFill>
        <p:spPr>
          <a:xfrm>
            <a:off x="6948360" y="342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Keith\AppData\Local\Microsoft\Windows\Temporary Internet Files\Content.IE5\I0MJUD2F\MC900437779[1].wmf"/>
          <p:cNvPicPr/>
          <p:nvPr/>
        </p:nvPicPr>
        <p:blipFill>
          <a:blip r:embed="rId5"/>
          <a:stretch/>
        </p:blipFill>
        <p:spPr>
          <a:xfrm>
            <a:off x="5869080" y="5018040"/>
            <a:ext cx="1797120" cy="1860480"/>
          </a:xfrm>
          <a:prstGeom prst="rect">
            <a:avLst/>
          </a:prstGeom>
          <a:ln w="0">
            <a:noFill/>
          </a:ln>
        </p:spPr>
      </p:pic>
      <p:sp>
        <p:nvSpPr>
          <p:cNvPr id="85" name="Right Arrow 3"/>
          <p:cNvSpPr/>
          <p:nvPr/>
        </p:nvSpPr>
        <p:spPr>
          <a:xfrm>
            <a:off x="2241720" y="2813040"/>
            <a:ext cx="1728720" cy="1622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10"/>
          <p:cNvSpPr/>
          <p:nvPr/>
        </p:nvSpPr>
        <p:spPr>
          <a:xfrm rot="348000">
            <a:off x="5011560" y="3508200"/>
            <a:ext cx="189720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Arrow 11"/>
          <p:cNvSpPr/>
          <p:nvPr/>
        </p:nvSpPr>
        <p:spPr>
          <a:xfrm rot="1419600">
            <a:off x="5111280" y="4599000"/>
            <a:ext cx="82872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owchart: Process 2"/>
          <p:cNvSpPr/>
          <p:nvPr/>
        </p:nvSpPr>
        <p:spPr>
          <a:xfrm>
            <a:off x="3970440" y="2205000"/>
            <a:ext cx="838080" cy="28130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12"/>
          <p:cNvSpPr/>
          <p:nvPr/>
        </p:nvSpPr>
        <p:spPr>
          <a:xfrm rot="19017000">
            <a:off x="4878360" y="1528560"/>
            <a:ext cx="828720" cy="865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13"/>
          <p:cNvSpPr/>
          <p:nvPr/>
        </p:nvSpPr>
        <p:spPr>
          <a:xfrm rot="20665200">
            <a:off x="4939920" y="2442960"/>
            <a:ext cx="1898640" cy="865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38:08Z</dcterms:created>
  <dc:creator>KH</dc:creator>
  <dc:description/>
  <dc:language>en-US</dc:language>
  <cp:lastModifiedBy>Keith</cp:lastModifiedBy>
  <dcterms:modified xsi:type="dcterms:W3CDTF">2014-03-02T10:03:01Z</dcterms:modified>
  <cp:revision>162</cp:revision>
  <dc:subject/>
  <dc:title>Intro to the Course</dc:title>
</cp:coreProperties>
</file>